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FF7-5DFD-4D95-89E7-C2E6E717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C25-8A68-4A6C-86A3-B41FD94E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3679-C306-463F-9CBE-2F51B4FA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2D414-FFDB-4214-9336-4240614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318BB-C363-4266-8FBF-9CBF042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19BAB-7D5D-47B8-8858-83B9571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11B14-0502-43ED-B636-EDE6C32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7466E-2EB0-40BC-932F-70BB135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5C46E-C94D-4491-83FD-D0270F3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F88F-AF2F-414D-8703-2985ACBC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9146C-1D12-42B5-B621-9B7DCAB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A7B6-BE64-488F-BC5B-C26DBE4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324-232D-4D40-B3D4-484B4B7C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F40D7-6486-4170-BE71-2423E4A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984E6-9D01-4822-AEDA-BA129FBA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A774-FBA1-48CA-8451-8A0E88C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DA8F-4CEE-4C6B-B45F-4A64896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DEEE0-A06E-4CEE-BB5D-3ECA0A2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DD675-2B37-4C57-A437-F7E899C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1F9AE-41C8-4A15-A054-37441A01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58C67-FA3D-48D6-BA99-818261C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6AC3-4866-4210-A4CC-06661960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1E0B-1A5C-401F-B2CF-5A035E3A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A06-4040-4EBE-B9F3-CFA8945D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4C714-4B51-4FFB-9186-95A6E5C8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D606E-D5E0-4F6D-9C44-3FB50B94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E625-8FD0-4236-981B-EB2B2B10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02F8-88B0-4943-B519-75C6751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3002-69AE-433E-8488-9AD4B778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317E-DD65-423B-8CED-AF60841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46DD-55F9-478B-8A8B-0A652B8A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CFEB-7B22-449A-981A-75D5011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AF52-3BB6-466D-9960-0DCCAB7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0487B-BC6C-4551-9663-80F968A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902E-B221-4BD3-879A-FCE5C52A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DDA88-2EB7-4725-A00E-630F0FA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2E2EE-DE88-41A5-9D52-8D886354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DBFE4-07FD-456C-972B-E98DEE91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979B3-00EE-4CC9-BB4D-BDBD05BE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BF6DE-057C-4A94-A7E6-3C4F37A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D83CD-403F-40F5-818F-EBD16AF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0DD5F-52CF-4673-9F3C-7651B69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4DDA4-201D-4456-9703-3D7CA214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2C49C-02F2-4DD6-AFDE-3F5435E6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15375-E80C-438C-8C02-59D5BBA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3796-0764-4689-911A-4763A1E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EE9B2-FD36-4704-9881-4453470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7284B-CD1C-466E-91E6-49102DA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9D440-2D6E-4BDC-A974-9507552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1E3EB-8507-45E7-AF9D-A8A2316F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C52FD-7482-4E23-B086-A3F1EC7D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817-3CCB-4D4B-AF61-617DE06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DD7-AE02-403B-ACD2-592C482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425B-5179-446D-9DF3-639099D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AD4-BB47-485A-A7E2-D9197006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6E9-BFA5-4AF1-A1F7-74665D0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59B-0A85-48E8-8B57-344E6E6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F64A-A505-449E-9B23-6B3DDF2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14F-D7BD-44E3-BBB7-6981552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34C3-D1E2-477B-9E05-C937CED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E192-1D08-4CEF-8AE2-08C58E11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A8A7-25ED-41A2-AB4B-442B3DD2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FA13-7240-456B-97B9-AEC82837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6035-8230-4E5A-BCF6-E07F353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DC8E-B85F-4C5C-9361-85D6491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2D20-D284-470E-82EC-F5215C3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5045-1017-41DB-8A84-82565D6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DC6-738B-4F51-9CAF-732C1178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3EB6-746E-40E9-BCF6-E7B6B2D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A3FE-C0B6-4A21-9E12-4FD48238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AE1F-1D70-4CFF-B5E1-3B1960E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5AB8-D9ED-4E82-99CF-563E3AD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918D-6FA9-4072-968A-814FEFD2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6F29-65D7-479A-8A13-970CFE5D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782B-CAD1-4BDF-BD4B-9D4232E9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A62D-B1B2-499A-BC25-C4F9CDC2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4A44-0003-4AB2-B058-FC7512AD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80D0-0921-4C07-A07E-1226B39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7E0-7800-4452-843D-D9FA849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66B5-A333-4B79-9EC6-4F45A8B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1DAC-3F1E-4F65-AC4B-022159C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8C30-920A-4231-8849-A858716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8219-DEA4-4879-A424-80F14E3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2E27-5CE3-446A-8E3A-92732D9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79DF-1B6F-491F-871A-7EC6107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1C5F-67BB-48BF-80D0-700D0A11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FBE4-8A0A-4231-89D5-5A393640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1C39-4469-418E-8988-87C8CA84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C77B-1553-4CC6-890B-803F7F01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F8F-5A56-460F-905C-2709A27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51FF-1C9D-4200-B749-DEE7755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5A4B-26F5-40CC-B85E-A821BB8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2B14-3DAB-41BF-8651-1FE6193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EDE1-1061-4320-B54A-ABFC190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9BD7-16C3-4EDA-9079-176447DA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F4B0-9EA6-4FE7-8D74-9AF83CA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A476-DCD1-48F3-946F-5B426FA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BF31-784C-42BB-8F45-C44858C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5EB9-DF75-4C0D-8934-1A7E044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8632-1C53-49EC-9ED9-4478BE2A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669-2430-416A-9656-CCF0B18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FAC4-E8BB-4799-AFE1-D71A03F7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1E4B-B40C-4771-B930-2A743F83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B47C-DE4F-49F7-A33A-DBEC108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0C7D-A3E9-48F0-AE3F-2CA60DD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07F6-8BD7-4057-9153-1F2158D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A2B3-1F52-4B1C-8D3A-07C312B3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F5583-B63F-4D3F-B2AE-801942A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31706-9696-48A5-80C7-B5B3D66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D487-0E18-46BB-A1E8-0904EBB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176B-8B51-4B97-94BB-E222056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3BC-B323-4FFB-B91A-D0B6E45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F196-5BF6-4616-BD56-94AD69B8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678E-0008-4C95-A778-7F9F8058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28027-1C1A-4C4A-A4F1-3014C031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CC3F-F7B1-4FA6-B87D-053525CA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8B6E-09B0-43A7-8F8C-65593263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4D93-8CCC-4762-94AB-EEE978A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9BCE-8899-43E5-A400-12542BD7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A85E-6148-47D7-B3A8-37A7D42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3A86-84AC-487A-9C7B-8F62441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64E6-61D7-4F62-8E1F-CDE47E2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AA8-B63F-49C3-A6D4-C8FEDD8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FDB3-D602-4AAF-AD84-AE6595F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9079-21FC-4F44-A3D0-75026FD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FD93-9060-4800-AA6B-90999C0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F6359-E48E-4E45-AD04-5BA400A5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6604-1127-4773-AE0F-03825EFC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137F-8396-4335-8C0A-2268C3A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429F-41D0-40FE-9238-AB5EC4F5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08D84-F80B-40F9-854E-3DF03787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274F3-DB4D-4036-91F4-2681DC58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A6B7-1D6B-44BA-B534-FA2B2002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645-C034-435B-9C8B-32D5DC4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3D17-37BF-42D5-84B5-DE7DFFED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E941-6063-40B7-B6AF-9DAA069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76BC7-471C-4B4F-86B2-6D3A9A4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4BBA-799E-4A40-9BE1-FDF7429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7E6A6-852A-4773-9866-63B811F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CC30-D315-4C11-A0F8-264AA01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BCE6-2F90-46C7-BEA4-385A345A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B8FAA-B94F-4702-B6A4-929171B1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E0788-9009-4B7C-B084-4202BE44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4FAF2-5548-432F-A219-386561C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CB0-A9B0-4D3C-A807-096D007005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77C-16E2-459B-B29F-A523547340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F8F-C36B-4EF5-A5D3-D97A97D6D7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EF22-6F76-4BE3-8FE1-8526F0AE63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05F8-1356-4B0C-AEC4-9C369FED03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3C21-8FBC-49A2-B631-C3EB44F471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B31A-8B2F-4BEE-BB74-4E6EA5FB7D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7AF3-758F-49F3-B3FA-917ACAED72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3E2-38E0-4AC9-B118-C2052C8864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EBB-9E45-448A-AF4E-8D13C8A4E0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B75-7CB7-4780-9485-0091CCF4D1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5E3-1002-49CF-9382-6F0090FAB7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3 Pane, z tvojho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z tvojho požehn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lynú prúdy radosti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nás tvoje ruky chrá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pokušení, v úz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ej dobe napriek mdlo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aj vo viere stálosti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prijmi chválu, vďačn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ilosť, dar spasenia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nám tvoja stála vern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ou srdcia napĺň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 nás k cieľu,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hoden chvále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2:15Z</dcterms:modified>
  <cp:revision>23</cp:revision>
  <dc:subject/>
  <dc:title>Je veľký náš Pán, on slávy je Kráľ Nech do všetkých strán  spev vrúcnych znie chvál.</dc:title>
</cp:coreProperties>
</file>